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F8211-CF52-468D-AE92-3778F6EF3C2B}" type="datetime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2680"/>
            <a:ext cx="4956120" cy="371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EC06A-A017-45F9-8302-A8EA24081F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2506D1-1549-440A-BE8D-055C89F52F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3259D-95A6-4EC8-9382-EF468EAB91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ABAB-9375-408A-8584-D5D4C9DE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05AA-24A8-4E0D-A0D1-1FF4558C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46A1-6689-4449-A541-F967B6E0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6886-4960-47E9-9156-BDA78BC6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79D-525E-4B63-A579-DFD435EB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9F62-51CD-4D5D-92D4-41D4362E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C2EE-C5CA-4494-848A-3C3CAABF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E381-0894-4E8C-9745-4F5CB35A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7263-81DE-4AC8-8284-34CED0E0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690-7BB4-496C-80A7-13A7AE9E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C3A4-2DCD-4CC1-AEB6-49725701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2E87-29D9-4004-A329-405EBB47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82566-59F6-476F-A2E4-3FBEFC9E4628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E05D37-F177-48D8-AA4C-6D82CAC0550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7840" y="1231560"/>
            <a:ext cx="8353440" cy="27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Отчет _______________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за ___ 20__ г. по проекту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«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______________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9264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чет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 ходе раб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« »                20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СШГЭС  20.08.1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986760" y="4005360"/>
            <a:ext cx="2360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Руководитель проекта о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Генерального подрядч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752440" y="4005360"/>
            <a:ext cx="2360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Руководитель проекта о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Заказч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8200" y="549360"/>
          <a:ext cx="8229600" cy="745920"/>
        </p:xfrm>
        <a:graphic>
          <a:graphicData uri="http://schemas.openxmlformats.org/drawingml/2006/table">
            <a:tbl>
              <a:tblPr/>
              <a:tblGrid>
                <a:gridCol w="3774960"/>
                <a:gridCol w="4454640"/>
              </a:tblGrid>
              <a:tr h="152280">
                <a:tc gridSpan="2">
                  <a:txBody>
                    <a:bodyPr lIns="60840" rIns="6084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Приложение №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3640">
                <a:tc>
                  <a:txBody>
                    <a:bodyPr lIns="60840" rIns="608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840" rIns="6084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к Регламенту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Box 6"/>
          <p:cNvSpPr/>
          <p:nvPr/>
        </p:nvSpPr>
        <p:spPr>
          <a:xfrm>
            <a:off x="34560" y="6550200"/>
            <a:ext cx="35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гружается из ИС КСП, дополняется вручну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1"/>
          <p:cNvSpPr/>
          <p:nvPr/>
        </p:nvSpPr>
        <p:spPr>
          <a:xfrm>
            <a:off x="6975360" y="6324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5FF310-D618-4536-9E64-B32FB4B1285B}" type="slidenum">
              <a:rPr b="1" lang="ru-RU" sz="1800" spc="-1" strike="noStrike">
                <a:solidFill>
                  <a:srgbClr val="00009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57200" y="345960"/>
            <a:ext cx="82296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366cc"/>
                </a:solidFill>
                <a:latin typeface="Arial"/>
                <a:ea typeface="Arial Unicode MS"/>
              </a:rPr>
              <a:t>Директивный план-график. Текущее состоя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4360" y="1557360"/>
          <a:ext cx="7854840" cy="3778200"/>
        </p:xfrm>
        <a:graphic>
          <a:graphicData uri="http://schemas.openxmlformats.org/drawingml/2006/table">
            <a:tbl>
              <a:tblPr/>
              <a:tblGrid>
                <a:gridCol w="585720"/>
                <a:gridCol w="6222960"/>
                <a:gridCol w="1046160"/>
              </a:tblGrid>
              <a:tr h="2221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Стат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24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7" name="Группа 9"/>
          <p:cNvGrpSpPr/>
          <p:nvPr/>
        </p:nvGrpSpPr>
        <p:grpSpPr>
          <a:xfrm>
            <a:off x="1401840" y="5877000"/>
            <a:ext cx="1332000" cy="246240"/>
            <a:chOff x="1401840" y="5877000"/>
            <a:chExt cx="1332000" cy="246240"/>
          </a:xfrm>
        </p:grpSpPr>
        <p:sp>
          <p:nvSpPr>
            <p:cNvPr id="58" name="Прямоугольник 5"/>
            <p:cNvSpPr/>
            <p:nvPr/>
          </p:nvSpPr>
          <p:spPr>
            <a:xfrm>
              <a:off x="1401840" y="5931000"/>
              <a:ext cx="360360" cy="144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8"/>
            <p:cNvSpPr/>
            <p:nvPr/>
          </p:nvSpPr>
          <p:spPr>
            <a:xfrm>
              <a:off x="1771200" y="5877000"/>
              <a:ext cx="96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 Отклоне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Группа 12"/>
          <p:cNvGrpSpPr/>
          <p:nvPr/>
        </p:nvGrpSpPr>
        <p:grpSpPr>
          <a:xfrm>
            <a:off x="2884320" y="5877000"/>
            <a:ext cx="966240" cy="246240"/>
            <a:chOff x="2884320" y="5877000"/>
            <a:chExt cx="966240" cy="246240"/>
          </a:xfrm>
        </p:grpSpPr>
        <p:sp>
          <p:nvSpPr>
            <p:cNvPr id="61" name="Прямоугольник 8"/>
            <p:cNvSpPr/>
            <p:nvPr/>
          </p:nvSpPr>
          <p:spPr>
            <a:xfrm>
              <a:off x="2884320" y="5931000"/>
              <a:ext cx="360360" cy="144360"/>
            </a:xfrm>
            <a:prstGeom prst="rect">
              <a:avLst/>
            </a:prstGeom>
            <a:gradFill rotWithShape="0">
              <a:gsLst>
                <a:gs pos="0">
                  <a:srgbClr val="ffe5e5"/>
                </a:gs>
                <a:gs pos="100000">
                  <a:srgbClr val="ffa2a1"/>
                </a:gs>
              </a:gsLst>
              <a:lin ang="54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4"/>
            <p:cNvSpPr/>
            <p:nvPr/>
          </p:nvSpPr>
          <p:spPr>
            <a:xfrm>
              <a:off x="3249360" y="587700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 Рис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12"/>
          <p:cNvGrpSpPr/>
          <p:nvPr/>
        </p:nvGrpSpPr>
        <p:grpSpPr>
          <a:xfrm>
            <a:off x="4003560" y="5877000"/>
            <a:ext cx="1292040" cy="246240"/>
            <a:chOff x="4003560" y="5877000"/>
            <a:chExt cx="1292040" cy="246240"/>
          </a:xfrm>
        </p:grpSpPr>
        <p:sp>
          <p:nvSpPr>
            <p:cNvPr id="64" name="Прямоугольник 11"/>
            <p:cNvSpPr/>
            <p:nvPr/>
          </p:nvSpPr>
          <p:spPr>
            <a:xfrm>
              <a:off x="4003560" y="5931000"/>
              <a:ext cx="360360" cy="14436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14"/>
            <p:cNvSpPr/>
            <p:nvPr/>
          </p:nvSpPr>
          <p:spPr>
            <a:xfrm>
              <a:off x="4369680" y="5877000"/>
              <a:ext cx="925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 Выполнен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Box 2"/>
          <p:cNvSpPr/>
          <p:nvPr/>
        </p:nvSpPr>
        <p:spPr>
          <a:xfrm>
            <a:off x="33120" y="6550200"/>
            <a:ext cx="19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гружается из ИС К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3366cc"/>
                </a:solidFill>
                <a:latin typeface="Arial Unicode MS"/>
              </a:rPr>
              <a:t>Проектирование. Текущее состояние, откло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9640" y="1249200"/>
          <a:ext cx="8064720" cy="3907080"/>
        </p:xfrm>
        <a:graphic>
          <a:graphicData uri="http://schemas.openxmlformats.org/drawingml/2006/table">
            <a:tbl>
              <a:tblPr/>
              <a:tblGrid>
                <a:gridCol w="1440000"/>
                <a:gridCol w="720720"/>
                <a:gridCol w="1440000"/>
                <a:gridCol w="2160360"/>
                <a:gridCol w="2303640"/>
              </a:tblGrid>
              <a:tr h="5176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Н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азвание 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Ср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С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Риски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Мероприятия по минимизации рисков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411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Slide Number Placeholder 1"/>
          <p:cNvSpPr/>
          <p:nvPr/>
        </p:nvSpPr>
        <p:spPr>
          <a:xfrm>
            <a:off x="6975360" y="63914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ACFC6-8C0F-435A-A18E-F8C84F740308}" type="slidenum">
              <a:rPr b="1" lang="ru-RU" sz="1800" spc="-1" strike="noStrike">
                <a:solidFill>
                  <a:srgbClr val="00009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147320" y="5543640"/>
            <a:ext cx="688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* - Риски неисполнения описываемой директивной задачи и связанных директивн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** - Мероприятия описываются в формате: «Мероприятие. Ответственный. Срок выпол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33120" y="6550200"/>
            <a:ext cx="19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гружается из ИС К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3366cc"/>
                </a:solidFill>
                <a:latin typeface="Arial Unicode MS"/>
              </a:rPr>
              <a:t>Изготовление и поставка  оборудования. Текущее состояние, откло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1"/>
          <p:cNvSpPr/>
          <p:nvPr/>
        </p:nvSpPr>
        <p:spPr>
          <a:xfrm>
            <a:off x="6975360" y="63914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6FB85-775D-4522-8FA5-5750C197FE30}" type="slidenum">
              <a:rPr b="1" lang="ru-RU" sz="1800" spc="-1" strike="noStrike">
                <a:solidFill>
                  <a:srgbClr val="00009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1249200"/>
          <a:ext cx="8064720" cy="3907080"/>
        </p:xfrm>
        <a:graphic>
          <a:graphicData uri="http://schemas.openxmlformats.org/drawingml/2006/table">
            <a:tbl>
              <a:tblPr/>
              <a:tblGrid>
                <a:gridCol w="1440000"/>
                <a:gridCol w="720720"/>
                <a:gridCol w="1440000"/>
                <a:gridCol w="2160360"/>
                <a:gridCol w="2303640"/>
              </a:tblGrid>
              <a:tr h="5176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Н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азвание 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Ср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С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Риски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Мероприятия по минимизации рисков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411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Box 5"/>
          <p:cNvSpPr/>
          <p:nvPr/>
        </p:nvSpPr>
        <p:spPr>
          <a:xfrm>
            <a:off x="1139040" y="5445000"/>
            <a:ext cx="688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* - Риски неисполнения описываемой директивной задачи и связанных директивн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** - Мероприятия описываются в формате: «Мероприятие. Ответственный. Срок выпол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33120" y="6550200"/>
            <a:ext cx="19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гружается из ИС К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9"/>
          <p:cNvSpPr/>
          <p:nvPr/>
        </p:nvSpPr>
        <p:spPr>
          <a:xfrm>
            <a:off x="457200" y="37944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3366cc"/>
                </a:solidFill>
                <a:latin typeface="Arial Unicode MS"/>
                <a:ea typeface="Arial Unicode MS"/>
              </a:rPr>
              <a:t>СМР. Текущее состояние, откло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1"/>
          <p:cNvSpPr/>
          <p:nvPr/>
        </p:nvSpPr>
        <p:spPr>
          <a:xfrm>
            <a:off x="6975360" y="63914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5BDCB-F931-4AC4-86DB-3F86D2EBF66A}" type="slidenum">
              <a:rPr b="1" lang="ru-RU" sz="1800" spc="-1" strike="noStrike">
                <a:solidFill>
                  <a:srgbClr val="00009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9640" y="1249200"/>
          <a:ext cx="8064720" cy="3907080"/>
        </p:xfrm>
        <a:graphic>
          <a:graphicData uri="http://schemas.openxmlformats.org/drawingml/2006/table">
            <a:tbl>
              <a:tblPr/>
              <a:tblGrid>
                <a:gridCol w="1440000"/>
                <a:gridCol w="720720"/>
                <a:gridCol w="1440000"/>
                <a:gridCol w="2160360"/>
                <a:gridCol w="2303640"/>
              </a:tblGrid>
              <a:tr h="5176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Н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азвание 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Ср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С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Риски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Мероприятия по минимизации рисков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411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Box 6"/>
          <p:cNvSpPr/>
          <p:nvPr/>
        </p:nvSpPr>
        <p:spPr>
          <a:xfrm>
            <a:off x="1139040" y="5313240"/>
            <a:ext cx="688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* - Риски неисполнения описываемой директивной задачи и связанных директивн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** - Мероприятия описываются в формате: «Мероприятие. Ответственный. Срок выпол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33120" y="6550200"/>
            <a:ext cx="19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гружается из ИС К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13"/>
          <p:cNvSpPr/>
          <p:nvPr/>
        </p:nvSpPr>
        <p:spPr>
          <a:xfrm>
            <a:off x="466560" y="18900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3366cc"/>
                </a:solidFill>
                <a:latin typeface="Arial Unicode MS"/>
                <a:ea typeface="Arial Unicode MS"/>
              </a:rPr>
              <a:t>Догов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98400" y="990720"/>
          <a:ext cx="7764480" cy="4860720"/>
        </p:xfrm>
        <a:graphic>
          <a:graphicData uri="http://schemas.openxmlformats.org/drawingml/2006/table">
            <a:tbl>
              <a:tblPr/>
              <a:tblGrid>
                <a:gridCol w="2649600"/>
                <a:gridCol w="1655640"/>
                <a:gridCol w="1297080"/>
                <a:gridCol w="2162160"/>
              </a:tblGrid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Наименование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и реквизиты договора\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ата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заключения догов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С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Рис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552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Slide Number Placeholder 1"/>
          <p:cNvSpPr/>
          <p:nvPr/>
        </p:nvSpPr>
        <p:spPr>
          <a:xfrm>
            <a:off x="6948360" y="63914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ECC0A4-B11F-423E-862A-F83AF49FB11A}" type="slidenum">
              <a:rPr b="1" lang="ru-RU" sz="1800" spc="-1" strike="noStrike">
                <a:solidFill>
                  <a:srgbClr val="00009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7920" y="6391440"/>
            <a:ext cx="691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лняется без использования ИС КСП Генеральным подрядчиком по контрактной схеме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C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, либо Заказчиком по остальным контрактным схем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13"/>
          <p:cNvSpPr/>
          <p:nvPr/>
        </p:nvSpPr>
        <p:spPr>
          <a:xfrm>
            <a:off x="466560" y="18900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3366cc"/>
                </a:solidFill>
                <a:latin typeface="Arial Unicode MS"/>
                <a:ea typeface="Arial Unicode MS"/>
              </a:rPr>
              <a:t>Бюдж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1"/>
          <p:cNvSpPr/>
          <p:nvPr/>
        </p:nvSpPr>
        <p:spPr>
          <a:xfrm>
            <a:off x="6948360" y="63914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574953-5CCA-4976-9FE8-EF5EE0C0E3D5}" type="slidenum">
              <a:rPr b="1" lang="ru-RU" sz="1800" spc="-1" strike="noStrike">
                <a:solidFill>
                  <a:srgbClr val="00009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9280" y="966960"/>
          <a:ext cx="8785440" cy="54306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3124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Финансирование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(план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Финансирование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(фак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Затраты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(план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Затраты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(фак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6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6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6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1 кварт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6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Январ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6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Февра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6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Ма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6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2 кварт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6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Апр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6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Ма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6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Ию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6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3 кварт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6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Ию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6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Авгу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6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Сентябр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65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4 кварт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6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Октябр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6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На дату отч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96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Ноябр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6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Декабр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65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6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6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6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6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65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6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9" name="TextBox 5"/>
          <p:cNvSpPr/>
          <p:nvPr/>
        </p:nvSpPr>
        <p:spPr>
          <a:xfrm>
            <a:off x="7920" y="6391440"/>
            <a:ext cx="691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лняется без использования ИС КСП Генеральным подрядчиком по контрактной схеме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C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, либо Заказчиком по остальным контрактным схем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457200" y="303120"/>
            <a:ext cx="82296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3366cc"/>
                </a:solidFill>
                <a:latin typeface="Arial"/>
                <a:ea typeface="Arial Unicode MS"/>
              </a:rPr>
              <a:t>Приложение. Текущее состояние (фотограф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1"/>
          <p:cNvSpPr/>
          <p:nvPr/>
        </p:nvSpPr>
        <p:spPr>
          <a:xfrm>
            <a:off x="6975360" y="63914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EE595-EF8E-4BFE-BE2F-6F2CFCA01BEE}" type="slidenum">
              <a:rPr b="1" lang="ru-RU" sz="1800" spc="-1" strike="noStrike">
                <a:solidFill>
                  <a:srgbClr val="00009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7920" y="6391440"/>
            <a:ext cx="691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лняется без использования ИС КСП Генеральным подрядчиком по контрактной схеме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C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, либо Заказчиком по остальным контрактным схем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18:22:35Z</dcterms:created>
  <dc:creator>none</dc:creator>
  <dc:description/>
  <dc:language>en-US</dc:language>
  <cp:lastModifiedBy>Торопчина Лидия Васильевна</cp:lastModifiedBy>
  <cp:lastPrinted>2015-08-05T14:45:53Z</cp:lastPrinted>
  <dcterms:modified xsi:type="dcterms:W3CDTF">2017-09-11T04:09:16Z</dcterms:modified>
  <cp:revision>58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inks">
    <vt:lpwstr>&lt;?xml version="1.0" encoding="UTF-8"?&gt;&lt;Result&gt;&lt;NewXML&gt;&lt;PWSLinkDataSet xmlns="http://schemas.microsoft.com/office/project/server/webservices/PWSLinkDataSet/" /&gt;&lt;/NewXML&gt;&lt;ProjectUID&gt;00000000-0000-0000-0000-000000000000&lt;/ProjectUID&gt;&lt;OldXML&gt;&lt;PWSLinkDataSet xm</vt:lpwstr>
  </property>
  <property fmtid="{D5CDD505-2E9C-101B-9397-08002B2CF9AE}" pid="3" name="Owner">
    <vt:lpwstr/>
  </property>
  <property fmtid="{D5CDD505-2E9C-101B-9397-08002B2CF9AE}" pid="4" name="Status">
    <vt:lpwstr>Черновик</vt:lpwstr>
  </property>
</Properties>
</file>